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C09A3B-7A48-4B43-9106-B47C97692A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F6E519-B5DE-4027-9627-0847DD17A02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743C20-1599-4A16-99DC-F3B794A1B6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C03540-1217-4793-8088-545E611E1BC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1F7760-A860-4286-88F6-CC3AAFC22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DD59D2-78AE-47D3-87A3-E96A2E006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0ABE1C-E9AD-4605-A51E-00695816B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7B51A1-05ED-46BE-9BF9-3866E5EA0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10D349-038B-4879-B64C-3D491C977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8EE400-0AC9-4AC7-B04A-C228BF0DF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B33D95-FD97-40F7-87A7-5D8AB0B1A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448207-335C-4DEA-99D8-C42049105AA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02E0A8-B85C-49F7-8493-2412AF35E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38F466-10F6-4C19-8609-D311C7E73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01CDF3-FDC5-4169-8B5C-965681FE4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3035EC-61C9-4940-9C7B-02804497F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2301EC-2161-4382-A634-BE94817D7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9BB73D-C761-4951-A13A-D220D58E77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EEDB7F-8491-4ED4-AD2A-CCF6D8377A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57A94A-2C73-47FF-86AE-5F2653C90E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B33C01-687F-4CC2-93D9-4328F797BB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F13AA9-50BD-4842-9FEF-BF4036757D2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D96BCC-BE33-4E83-9AD3-C9DF5DA8369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D96B2D-FF0A-47FC-B401-5C5184E5FB7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37FBA-3D01-461C-B9ED-DE4E39C5D054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1EE78-F07A-4A87-AA70-9A11FAFBC8D5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D5BF4F-1870-4B06-A80E-62BC9CF2996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FFD397-DBBE-4567-9F9C-F08B16A1230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5451C0-1B9E-4CBF-AAF2-29A291E2A0D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AEF3BF-6C1C-4C06-9FAF-5CC07BFB481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86F651-50F1-46D4-B2EA-4CA28A11C76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346BBC-1977-4EFF-A056-F8D3945CE0B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201D64-ED04-4207-B651-6189C5D31A1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, smooth.spline functions in ‘stats’ packa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pline – smoothing splin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supporting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472B1A-2F93-40FC-A9AE-EFDE73C98C3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4253A2-1BF7-419E-8DF2-1CC116A6FCB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0565C2-B691-4374-A3BE-68FA218F39B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, df=2.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21A5BD-661C-45B8-9A01-8DB5507C2FB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CC272E-129F-4F5C-950E-CEA287E57F1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342791-8ED5-4492-A3D7-2EBAFEFDFCE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C2AFC2-809B-4E18-A417-8F220AB99AF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19T15:53:45Z</dcterms:modified>
  <cp:revision>169</cp:revision>
  <dc:subject/>
  <dc:title>minSpline: An R Package For Minimal Knot Splines</dc:title>
</cp:coreProperties>
</file>